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EE14-9980-49E2-8E64-7FFDA202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9F8-5C26-4232-A29F-A95BBDE3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A4A-4317-437A-B434-CAB001B6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A33-5B7E-4CEC-A345-930C7856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F3C-094D-4E46-976A-3ED6E881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F7A-4188-41CD-AFA5-6A77D817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43C-B83D-4C65-BCDD-FC710762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35B-8FD0-49CD-921A-9677B55A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2E1-A0C0-4038-A45A-58EFEEEA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16C-77E3-438B-B251-D164635F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D08-751A-41A4-9F22-15C01C02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2BA-3658-4FED-8DC8-374D270C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6E0A-AF83-4171-BFAD-D53D8DD07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76320"/>
            <a:ext cx="6629400" cy="6629400"/>
            <a:chOff x="1143000" y="76320"/>
            <a:chExt cx="6629400" cy="6629400"/>
          </a:xfrm>
        </p:grpSpPr>
        <p:sp>
          <p:nvSpPr>
            <p:cNvPr id="42" name=""/>
            <p:cNvSpPr/>
            <p:nvPr/>
          </p:nvSpPr>
          <p:spPr>
            <a:xfrm>
              <a:off x="1143000" y="76320"/>
              <a:ext cx="6629400" cy="6629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495680" y="76320"/>
              <a:ext cx="0" cy="662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00200" y="1752480"/>
              <a:ext cx="5715000" cy="33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1600200" y="1905120"/>
              <a:ext cx="579132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8:37:54Z</dcterms:created>
  <dc:creator>Dina Winterton</dc:creator>
  <dc:description/>
  <dc:language>en-US</dc:language>
  <cp:lastModifiedBy>Dina Winterton</cp:lastModifiedBy>
  <dcterms:modified xsi:type="dcterms:W3CDTF">2010-03-24T18:44:22Z</dcterms:modified>
  <cp:revision>2</cp:revision>
  <dc:subject/>
  <dc:title>Slide 1</dc:title>
</cp:coreProperties>
</file>